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A22-83BB-449E-A6D4-F38DF648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269-4384-4A08-AAF9-4815F45A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481-FC35-4D93-A394-60FD9F08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3AD-CBBA-4B8C-9ED7-F5FFA322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86C-CBD7-4FEB-AA69-559E096D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269F-B965-409F-98C6-86A65346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947B-98CD-4D69-9AFA-678FDA8B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B413-A4F5-491D-BFD4-C8DE2BD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C96C-CB47-4E2D-830D-9CA21A8F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05F5-8963-4B17-81B3-AE122815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C130-E0B9-44D8-816A-7780FD1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36E-DD5A-45AD-B9B3-1B561E35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BB32-6CA2-4198-BD36-7274EC8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D06A-ABE4-45CA-A84D-55851BB5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3002-9D59-4B39-9B7A-5DD47022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B773-49EC-499A-8EDC-74732CF5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160E-15E3-4DFE-B7FC-FCC6EA25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9D2-41B4-401D-9901-548CDB3F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CD0-F6D5-4364-8E44-1F4FDEF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13D-3711-48CD-9A22-168AF4EE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8B7-1C5D-4DA4-9B90-3F94F74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F12-8395-4BB9-ACB6-34001787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BF4-0736-4F0A-9C93-A286CBF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FB4-9854-4050-BF8C-973606D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2F81-327D-47B8-802C-FEB0A6BB3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8FF7-2BF5-4A05-8E35-166400D8A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8627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1081"/>
                </a:solidFill>
                <a:latin typeface="Tahoma"/>
              </a:rPr>
              <a:t>Мелкие млекопитающие- постоянные обитатели живого угол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92720" y="4723920"/>
            <a:ext cx="354168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ыполнили: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студенты 636 гр.    Коснырева И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Жикина Светла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асева Евдок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четкина Елизав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Школьная Екатер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4572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Значение млекопитающих и биоэкологическая характеристика класса млекопитающих. Классифик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Многообразие и характеристика мелких млекопитающих- грызунов, зайцеобразных. Экологический пасп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Создание оптимальных условий для жизни зверей в уголках природы ДО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Особенности подбора млекопитающих в живые уголки разных возрастных груп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Методика ознакомления дошкольников разных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возрастных групп с мелкими млекопитающ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Цель и 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Раскрыть проблему ознакомления дошкольников с мелкими млекопитающими  в уголках природы ДО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Познакомить с литератур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Раскрыть значение мелких млекопитающи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Познакомить с характеристикой, многообразием, условиями жизни, особенностями подбора обитателей живого уголк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30240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Основное содержание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По проблемным вопросам были раскрыт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классификация по способу питания, взаимосвязи с человеком, способу передвижения, по среде обитания, внешнему виду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видовое многообразие и экологический паспорт млекопитающих (происхождение, размер, окраска, питание, поведение, размножение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Оптимальные условия жизни зверей в уголке природы ( клетки, предметы ухода, болезни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Подбор млекопитающих в живые уголки в разных возрастных группах в зависимости от разнообразия программ (Серебрякова Т.А., Золотова Е.И.,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Методические рекомендации по ознакомлению дошкольников с мелкими млекопитающими (конспекты, наблюдения, загадки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00720" y="4121280"/>
            <a:ext cx="2736720" cy="2736720"/>
            <a:chOff x="4500720" y="4121280"/>
            <a:chExt cx="2736720" cy="2736720"/>
          </a:xfrm>
        </p:grpSpPr>
        <p:sp>
          <p:nvSpPr>
            <p:cNvPr id="95" name=""/>
            <p:cNvSpPr/>
            <p:nvPr/>
          </p:nvSpPr>
          <p:spPr>
            <a:xfrm>
              <a:off x="4523760" y="4144680"/>
              <a:ext cx="2689920" cy="268992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00720" y="4121280"/>
              <a:ext cx="2736720" cy="2736720"/>
            </a:xfrm>
            <a:custGeom>
              <a:avLst/>
              <a:gdLst/>
              <a:ahLst/>
              <a:rect l="l" t="t" r="r" b="b"/>
              <a:pathLst>
                <a:path w="3047" h="3047">
                  <a:moveTo>
                    <a:pt x="2835" y="0"/>
                  </a:moveTo>
                  <a:lnTo>
                    <a:pt x="3047" y="211"/>
                  </a:lnTo>
                  <a:lnTo>
                    <a:pt x="3047" y="2835"/>
                  </a:lnTo>
                  <a:lnTo>
                    <a:pt x="2835" y="3047"/>
                  </a:lnTo>
                  <a:lnTo>
                    <a:pt x="211" y="3047"/>
                  </a:lnTo>
                  <a:lnTo>
                    <a:pt x="0" y="2835"/>
                  </a:lnTo>
                  <a:lnTo>
                    <a:pt x="0" y="211"/>
                  </a:lnTo>
                  <a:lnTo>
                    <a:pt x="211" y="0"/>
                  </a:lnTo>
                  <a:lnTo>
                    <a:pt x="3047" y="0"/>
                  </a:lnTo>
                  <a:lnTo>
                    <a:pt x="3047" y="3047"/>
                  </a:lnTo>
                  <a:lnTo>
                    <a:pt x="0" y="30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Таким образом, данная тема проекта является актуальной, т.к. дети разных возрастов должны знать многообразие млекопитающ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356000" y="3860640"/>
            <a:ext cx="3673440" cy="2467080"/>
            <a:chOff x="4356000" y="3860640"/>
            <a:chExt cx="3673440" cy="2467080"/>
          </a:xfrm>
        </p:grpSpPr>
        <p:sp>
          <p:nvSpPr>
            <p:cNvPr id="100" name=""/>
            <p:cNvSpPr/>
            <p:nvPr/>
          </p:nvSpPr>
          <p:spPr>
            <a:xfrm>
              <a:off x="4382280" y="3887280"/>
              <a:ext cx="3620160" cy="24138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6000" y="3860640"/>
              <a:ext cx="3673440" cy="246708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Иванова А.И. Мир живот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Николаева С.Н., Волкова Н.А. Познаем прир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Марковская М.М. Уголок природы в детском са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Золотова Е.И. и другие авторы по данной пробл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03440" y="1916280"/>
            <a:ext cx="3318840" cy="4941360"/>
            <a:chOff x="703440" y="1916280"/>
            <a:chExt cx="3318840" cy="4941360"/>
          </a:xfrm>
        </p:grpSpPr>
        <p:sp>
          <p:nvSpPr>
            <p:cNvPr id="106" name=""/>
            <p:cNvSpPr/>
            <p:nvPr/>
          </p:nvSpPr>
          <p:spPr>
            <a:xfrm>
              <a:off x="739080" y="1951920"/>
              <a:ext cx="3247560" cy="487008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3440" y="1916280"/>
              <a:ext cx="3318840" cy="4941360"/>
            </a:xfrm>
            <a:custGeom>
              <a:avLst/>
              <a:gdLst/>
              <a:ahLst/>
              <a:rect l="l" t="t" r="r" b="b"/>
              <a:pathLst>
                <a:path w="2041" h="3039">
                  <a:moveTo>
                    <a:pt x="1861" y="0"/>
                  </a:moveTo>
                  <a:lnTo>
                    <a:pt x="2041" y="179"/>
                  </a:lnTo>
                  <a:lnTo>
                    <a:pt x="2041" y="2859"/>
                  </a:lnTo>
                  <a:lnTo>
                    <a:pt x="1861" y="3039"/>
                  </a:lnTo>
                  <a:lnTo>
                    <a:pt x="179" y="3039"/>
                  </a:lnTo>
                  <a:lnTo>
                    <a:pt x="0" y="2859"/>
                  </a:lnTo>
                  <a:lnTo>
                    <a:pt x="0" y="179"/>
                  </a:lnTo>
                  <a:lnTo>
                    <a:pt x="179" y="0"/>
                  </a:lnTo>
                  <a:lnTo>
                    <a:pt x="2041" y="0"/>
                  </a:lnTo>
                  <a:lnTo>
                    <a:pt x="2041" y="3039"/>
                  </a:lnTo>
                  <a:lnTo>
                    <a:pt x="0" y="30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319640" y="2852640"/>
            <a:ext cx="46450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6:08:42Z</dcterms:created>
  <dc:creator>студент</dc:creator>
  <dc:description/>
  <dc:language>en-US</dc:language>
  <cp:lastModifiedBy>студент</cp:lastModifiedBy>
  <dcterms:modified xsi:type="dcterms:W3CDTF">2010-05-22T08:59:13Z</dcterms:modified>
  <cp:revision>3</cp:revision>
  <dc:subject/>
  <dc:title>Мелкие млекопитающие- постоянные обитатели живого уголка</dc:title>
</cp:coreProperties>
</file>